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EE3F-8EE3-47F2-A696-0C18E33F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B4B2-DA48-450B-8ECF-4494654E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D1FFA-2BC2-44CB-85FA-4E2D7CCD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C948D-C787-403A-B2D2-E2739526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B2682-D8BB-4169-9FDB-7806D899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E6FE5-60D8-4592-A83F-4FBBBD1D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DFC82-7883-4FBF-A0AD-ED0209AE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11D15-D743-4884-9D0F-F5E56187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BBB43-A108-4AB0-A03B-99474E8C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79C34-8401-4E42-A6FA-6A7C9DCF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EB2EF-2D5B-4E9B-B1A4-F84ACD76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F430E-71DC-4D02-9A6E-C35D14E9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EE04-EE7F-4CDB-8473-73485543D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F99AF-7AE5-4233-8A76-85FADB13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249B8-4809-4A75-A665-62C2102E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686C4-6147-4FFE-A771-BB6A9479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534B2-3502-48F4-9AC4-B43C6816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569F5-15A4-428A-A977-365505A0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3ADC6-F718-488F-AA09-2D201725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B716D-584C-4729-B930-F58982C3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FE240-6BDE-45C9-9B75-EE36065B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055F0-1DE1-4D67-8A16-4835BE6E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A4D91-D9D1-408B-8AC4-EC63037B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05B8-F067-4F4D-82AE-E33B00E0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D4897-2072-4846-AA54-39AD6060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89840-1115-47F0-BF28-27BB1FAD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6F9D1-A8D0-4988-8129-B5B330EA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EF8BE-08B9-49C6-B344-15000A92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65BC9-658A-46C1-B764-EDC73CBA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80E00-6614-4F4C-B47E-E06C179A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F3700-8D6C-4C2E-96A5-54C94B92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38296-549C-4AA0-A360-A07ACEF5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E9F97-D798-443D-A95B-048D98A7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6BCD0-AB3E-4BAF-96B7-666B2FEC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4DBA-A7CC-483F-9F96-71D9C12F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23C01-E29B-46E6-8C47-C7AE5B77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CE22F-8BCB-4E3B-9E04-3BBBE5C5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74055-5731-4516-81AF-D148037F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BBB416-B021-4A87-AFF6-A0ED6121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706D8-2F4F-483A-B094-D98CA3F8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1F586-9634-4075-B29F-386259E3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305CD-46E0-45B1-94CD-53CB9271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8B0BD-CB20-4AF5-ADA3-4AD9A2DA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6CCE2-64DA-4B83-A42A-63103A1E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65F81-DFA5-42A8-9A98-3497685F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A005-708C-4D5A-B819-B03FF711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EB5CC-63FF-4880-8A09-D27581DF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29989-88E9-46AC-BCB3-4745FD29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43341-B5FD-4FD7-9639-ACC9A03A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02D4E-7B0B-4F85-990E-1A717955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BE6F5-AC00-4D01-BDFC-377098A1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51E938-43C3-40F0-AF7D-14648541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19F496-CD97-4312-9182-C5DD2D6D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B9E599-B067-487E-94A2-E592471B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9A8E7-DCB0-4279-9DBE-367F3E61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8B476B-B5FA-451D-AC1C-4B2E55AC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17EA-9348-4EE2-90E1-7B426CD8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B829B8-972E-4E18-A7E4-72ED2A57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BB7094-F641-4962-A640-8CAADC8A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BAEF19-A8B2-451C-A530-6EDDF26A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8A8112-1619-4D9A-BF59-6FAA94A7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F15C83-8E38-435B-80D2-81F1A270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ABE46D-11FB-41A0-B663-A53DD52F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1100FD-6CE5-49DD-8CB8-97F8875B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1A4A8C-A6F6-4BB0-925F-F9910F83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4220BA-25AE-4732-A121-0C163B96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C5FEF6-49C4-4154-87AD-F010A904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E4BC-44AD-4CE8-8716-BA2D4276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0F4F3E-41C7-4F34-8712-0E7D1DF2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6A1138-C8A3-4484-A585-72ABB641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142F49-E97B-414F-9314-35B97DA7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38F6C6-BBE8-445F-AD31-800D9399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F15629-0D8F-4DBC-9483-3A6C7654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615046-D3B7-452E-BBF8-28C33F46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C4A930-43DA-4D71-A7CA-154AE32F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C3674E-6794-4A36-B344-543F86DA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52BA15-6E5B-47F6-BF57-0E9582C3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E4F565-4C23-4631-9BDB-890CAE97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B9AE-AEDC-489A-8452-D73D0C1B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D9E5C8-A4CA-4163-B64D-CC2DAF8D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5145DC-81D9-4826-B632-34F3B536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C22CD1-235F-41CD-A8B8-3F39D965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B18F0D-99EA-4B15-A839-01935F6A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60CC0E-E740-4A14-822B-77F70C70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B744FE-A7A9-402F-97F3-384223D9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DE882C-7AA2-4F07-8828-388ABE12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E7F062-C28F-41D1-9D5C-990B62D1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88DA46-62A7-4137-A23E-F8CED862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4F4ACB-0970-4714-8D14-8A76E258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F377-B2AC-4DE2-9C33-1490EF0D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2F9E3D-3294-422B-AC60-7A7C8BCF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918531-0713-4E9D-B15A-B208F663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65E0A9-44EB-4365-89AC-BE391987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4EF72E-DDF7-445C-A96B-004850DE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47BAC8-79A8-49D5-BD66-3BBBDE14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6AEFF9-80C1-47DF-9CFA-0DE2D524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D8778C-2FFF-460B-8D23-CA5EA784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595A36-BFED-4AFE-9377-C836B96E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2BFE90-538C-422F-8B42-5E50DFF9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E6591B-156F-42B7-B6FF-0D87D100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149B-6109-4441-9342-EA259F4E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1021B2-5678-4D81-A3E7-C055329B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935C70-CBA8-4193-B6AB-CC4105FA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D926A9-0C1E-42BE-86AE-024EA1C8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26FC34-7507-4AB8-94E6-0E3A2C22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A08B68-A06D-476F-9FB8-0BE95FE1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B25DE9-1304-4937-8F73-C072AF15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5EF1A7-03A4-4287-A22F-B70DE1B6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B0F378-ED29-4E87-8F79-7A53EB70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CDE896-E9C3-4503-BCF8-5ABC6F67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AF070D-3D2C-45DE-A69C-4B5B415E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FA0B-8264-4AC9-B9A4-E1DFDF9C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CC49-31A2-467C-A550-FC870023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1B8712-06FC-40F5-930C-13205FDB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B8FE9C-B254-435B-B6D2-09C17C27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CC2EEB-0534-4253-BA56-FC00DC52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C46669-5267-4E5C-BC42-766FA05C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540689-96C3-4005-93FA-A8A66018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263067-99E3-4FA2-A7B7-B60C7786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27F8CC-63A2-49FF-ADC9-71858008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2F70C4-B0CF-4C13-9A53-376B187C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CFB17F-8B36-4935-8619-197AAC81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D80CFC-2034-4AE3-9D8D-F06512D0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408E-0360-45B8-9C8F-C2A36F5E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A84A5B-9A5F-493E-8163-580A28D0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054274-3D67-40E3-9291-8999DE86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5340B0-E9AE-432C-839D-AA191A72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DDDD65-4745-4AEE-ABE0-C636D38C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C73D77-AED9-41C4-9C16-56CE39F7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9449B8-23A5-42F7-B7C1-1CA0068E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17432B-030D-4994-93A6-A1C71958B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BAF23F-EEE7-490B-AC01-7A0C36DE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ECC2F1-48A4-4008-9C8F-08FB5825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E9766F-8F73-423C-916E-EFB4CC09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2419-815C-4058-A253-9E62738F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760D39-4B48-4E2B-A01F-155209A2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259D9E-4392-4576-BC69-EA58F067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36A776-0D04-45E8-8FCA-C2DA0989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EF34EE-9D3C-4E69-B863-E4FD34C4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46CC9B-3EEE-4BE0-9B81-5CEC4B6A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9DBC8A-B002-4CBC-8879-6522E119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51B0FE-7992-4FDF-8026-145DC1D2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7F5A0D-D9E3-4887-9CA7-D888EFAF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FACEF5-256A-477A-A279-6E937522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FFF3CB-ED4C-46FA-A855-612DBBBA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107D-C2A8-4F04-814E-FAC1EFC2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D5D8BC-34A3-4059-BEF8-1E4AB4D6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725746-35DA-4804-A7FE-CFBB4E52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044EB0-BEC5-459E-AB3A-ED3DC0E3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CF8990-438F-492D-82ED-9A54EE32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C5458A-E8EB-487B-A74F-4E7092F2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48336C-9CC3-4A1E-AC7A-71BE5FBF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C71314-BCA4-4C3A-8A9B-484272B8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BA08C9-8E49-4F87-B8E7-60B84768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308953-1F00-49EA-84D6-A4EBB4FC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11A0C7-085C-4A78-BCCF-3A00624B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F1A8-9B1F-4326-9B04-2D4E66E0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17971C-9D45-459C-83B0-389D0A6A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EE162D-9445-4544-80AA-7AC8A463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4B7320-0C74-49ED-A4DA-583B528D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14B43E-9F63-4242-B6FD-7ECD38D5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ABB4D6-1C36-47B4-9AFB-88875399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D46BDB-FF07-4285-91BC-3CFD0371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3EAC0C-BED0-46ED-91AA-A2B307B5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C293BE-1062-419E-96CF-76BDC813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EF548B-D069-465B-9F25-A5A72303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A4978F-245D-4C69-A85A-B6585E5B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BA5BD-7C9F-4683-AA37-75184B9D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2448EA-2926-448A-9D62-60E24C89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691677-A59A-4167-8ECF-76C0309C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884014-6238-4E07-97FF-03B6B85A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7E224-667B-4D78-88D0-8CE4B82E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7F2A3-956E-448C-8CD2-D6FD7828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6B71E-8410-47CC-B942-5B62401E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7442F-2E9C-44CC-A25A-194D49AE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E199-31BF-42B1-9AB3-26C08DC9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2268B-D89A-49D2-9049-3BBE2336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D8754-F74B-4D5A-B342-A97333E4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2383C-E41E-487B-8997-44626357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53081-DE95-494E-B838-BF41DB44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BEBA8-E0BB-4851-A771-E9751816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05786-6753-4AE5-B459-ABA84EB3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2DEEA-A9AC-4E1E-BE4D-490D2EA8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0F44D-CA9F-4B84-B72E-BD7382E0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3889B-301C-496F-B3CC-74894601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7A762-4E8C-41FD-9C0E-E5D8F1FE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95AB-EDC2-4C6E-BDBB-82C6100C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50F6B-9482-40C0-ADBD-F4D3C58A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B9060-28C6-45D1-AA1D-5AFF9004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77906-AFE2-40CF-9938-AAA3A05B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0D7E8-9911-4151-8913-9F757889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B10E1-107D-4441-A5DF-DD9B006B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4E137-F8A9-4987-9168-E4F0D292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5D48B-E034-4533-9527-86E6072D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DD1B8-BF7F-4340-9CCC-BC2E3F9E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A1287-1F31-47AA-B907-B93D53BD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AF583-30B9-4FE9-8511-979BA7D0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579-3019-494B-B952-E1D29773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C9381-7D75-4C67-892F-1535B503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46882-3FEE-4A8B-B3A4-15AF80D0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51965-84BD-4328-99B6-B6F9319E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ADFA5-084E-470F-9A3D-395ADDA1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C43A9-ACBA-4602-AEFA-5B6A0617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4E5B1-1F74-4AD6-9528-C8C62AC8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EEBB3-C401-4769-B194-058B2393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2C67D-2F9C-4CA7-8450-B5F11464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969C7-EC53-402B-BFFA-6F4EAA86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31532-09E8-4F84-BD8B-E730569C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2E4B-A1AC-40C8-8186-36B9F8F5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A97D3-4107-486E-91F3-96DB1A11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3D32D-EAAE-438F-943F-698DD1CE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BAEAD-B5F5-44CE-B814-63A1224A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86761-4122-4C2A-9A9E-8029337F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E1BDD-026D-470F-A52F-85A03A0A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D8E03-413B-4ECD-8E03-8BA038C4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13C67-FB7E-4363-96AC-11706BDF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EA39E-D395-4A6B-A35E-B40EFAFB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439FF-03DB-4E88-B696-E0A43DBC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B4341-2558-4865-8D10-2A89EEDA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675F-B02E-4189-935E-356F5A7F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2BE73-85D7-46DB-A08C-7B907160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84527-F8AC-479A-9C45-4FA21D8D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F29F0-4C90-496C-BD0F-F47DDE6D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719BF-8B4B-4CD0-8DBD-49CB5DF8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6AB98-3351-43C4-8FC0-EBBE0A75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FF437-D58F-4DBB-A132-3BFE6D3A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C17DE-1CA0-4ACE-8EDB-137CB2A4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7DC3A-300C-477D-9B9E-857D3BA5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DB1EC-220D-4B96-A39D-AB4F8F0E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21633-7FCA-4C4A-8631-9A9D789B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42B8-EC5B-40AA-88F2-9BF2C743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CA0CE-3421-4EDD-87AB-681700F7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61F32-583B-44C5-AD73-D0E7A96D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921CE-389A-4FDE-B85B-531B8729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F6349-F26B-44A0-88A6-8D5D8A9E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9DC03-04D1-48C8-92C1-28764668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0637B-B4EB-45CB-B268-A1D45A4A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9684D-0806-4FF4-8FF0-B8695160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05257-C733-4FB0-8410-443EF474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1B3E5-4960-46F8-A61C-50B27BE8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BEF6D-2DFD-4A6E-98FD-A280CA61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57F8-820B-457A-AE86-9ADB5712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3993E-D45E-4B00-A887-AF14334A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C16E1-F596-4367-BAAC-F1BDF130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05938-356A-48B2-982A-9942F61B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30258-5062-4982-91CB-ED979216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F6528-BD9C-4C09-A202-392B90F2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9CB5E-1E40-4013-A764-8393E3B3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937D8-394B-4ACD-A1B5-739633B1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17CF9-80B8-4466-BB57-E250135E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6835E-787F-4D3B-A83B-531E919D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BD998-517A-456F-9439-E762D067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3FF0-75EF-4FE8-A688-40A09F729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3627-ADF4-4A43-8E37-8876CF753B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D04D-9D8B-4BE4-9FF8-90A217CC41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622C-F2EB-4970-84C1-00935412A8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0239-677D-4D1D-95E2-FA258A3C03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7F31-1A04-4CFC-85A6-A80D9FCF12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E6D4-249C-49C5-95C4-B86B03D977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4A94-66AC-4744-8E34-DFD9C856C9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E5E9-46D1-42D6-B741-93C559B952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43E0-2B22-4461-8FCC-4C7BC54387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6232-AC5C-42A5-8E39-5741A7F3B6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8CCE-6CC8-4941-88AE-2F2045EC4E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E60E-5671-4C46-BAF9-75359FF7E7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D7A4-C33D-4980-A1D9-BB78EFA00B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3CA6-5AF5-4347-B384-AB1A2D087B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4E18-E728-4DE5-A0F3-993CF25EE5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96EF-FA03-47C6-B83E-10B4E18C31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8BE4-FE80-46D2-8AFC-8354267582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D7E1-5F8D-4606-A33F-DE7470171D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0168-986C-4D62-B044-7273830CEF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257C-FB5B-47F7-A98C-ACA34628E5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F953-FA02-4B91-8733-4F2AEC30D3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13E3-7745-4949-8965-921D635AA3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654E-3E3B-4B41-BE3A-FA33A499D5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3F91-7298-4B33-86E0-BEF2B44EA1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249E-B6CF-4AC4-93E2-489F612BFA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E82A-71CD-4434-9FF5-AE37BAF45F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F7CA-1103-4B55-A35F-967921D7B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72B1-F151-4FD0-9BC5-6418951F80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0EEB-EC64-4103-B327-55A9C497F7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AD81-5222-4A64-9DD3-8ACEC225C1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1D2C-648F-4A8E-B662-3D06DB500D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33C4-E3FB-4C79-AA96-80D16C8566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D706-595D-45DD-8C4E-4E31846D2D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F27D-22EB-4663-B619-CD93BC7453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90EC-5065-434D-942A-5CEBB9E98D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42A1-7C01-42BC-9976-A98F8C6CED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02C9-827D-4D64-8C59-6CC7B47DA0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849D-0147-4DD0-BAAA-060D677680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666F-6F0B-43E3-9DD8-8A5ED64CED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85760" y="3143160"/>
            <a:ext cx="87724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82440" y="1019160"/>
            <a:ext cx="8979120" cy="48196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5954760" y="3429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8028000" y="3429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3851280" y="53737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6012000" y="53737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8028000" y="537372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328680" y="952560"/>
            <a:ext cx="8485200" cy="49528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332000" y="1557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258920" y="386064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1332000" y="4941720"/>
            <a:ext cx="43164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95400" y="1157400"/>
            <a:ext cx="8953200" cy="454320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6146" descr=""/>
          <p:cNvPicPr/>
          <p:nvPr/>
        </p:nvPicPr>
        <p:blipFill>
          <a:blip r:embed="rId2"/>
          <a:stretch/>
        </p:blipFill>
        <p:spPr>
          <a:xfrm>
            <a:off x="3851280" y="5113440"/>
            <a:ext cx="1728720" cy="558720"/>
          </a:xfrm>
          <a:prstGeom prst="rect">
            <a:avLst/>
          </a:prstGeom>
          <a:ln w="0">
            <a:noFill/>
          </a:ln>
        </p:spPr>
      </p:pic>
      <p:pic>
        <p:nvPicPr>
          <p:cNvPr id="1044" name="图片 6147" descr=""/>
          <p:cNvPicPr/>
          <p:nvPr/>
        </p:nvPicPr>
        <p:blipFill>
          <a:blip r:embed="rId3"/>
          <a:stretch/>
        </p:blipFill>
        <p:spPr>
          <a:xfrm>
            <a:off x="6329520" y="5113440"/>
            <a:ext cx="17287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409680" y="2195640"/>
            <a:ext cx="8324640" cy="2466720"/>
          </a:xfrm>
          <a:prstGeom prst="rect">
            <a:avLst/>
          </a:prstGeom>
          <a:ln w="0">
            <a:noFill/>
          </a:ln>
        </p:spPr>
      </p:pic>
      <p:pic>
        <p:nvPicPr>
          <p:cNvPr id="1048" name="图片 7170" descr=""/>
          <p:cNvPicPr/>
          <p:nvPr/>
        </p:nvPicPr>
        <p:blipFill>
          <a:blip r:embed="rId2"/>
          <a:stretch/>
        </p:blipFill>
        <p:spPr>
          <a:xfrm>
            <a:off x="3492360" y="2708280"/>
            <a:ext cx="1094040" cy="558720"/>
          </a:xfrm>
          <a:prstGeom prst="rect">
            <a:avLst/>
          </a:prstGeom>
          <a:ln w="0">
            <a:noFill/>
          </a:ln>
        </p:spPr>
      </p:pic>
      <p:pic>
        <p:nvPicPr>
          <p:cNvPr id="1049" name="图片 7171" descr=""/>
          <p:cNvPicPr/>
          <p:nvPr/>
        </p:nvPicPr>
        <p:blipFill>
          <a:blip r:embed="rId3"/>
          <a:stretch/>
        </p:blipFill>
        <p:spPr>
          <a:xfrm>
            <a:off x="4730760" y="2708280"/>
            <a:ext cx="1093680" cy="55872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7172" descr=""/>
          <p:cNvPicPr/>
          <p:nvPr/>
        </p:nvPicPr>
        <p:blipFill>
          <a:blip r:embed="rId4"/>
          <a:stretch/>
        </p:blipFill>
        <p:spPr>
          <a:xfrm>
            <a:off x="6545160" y="2708280"/>
            <a:ext cx="1987560" cy="55872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7173" descr=""/>
          <p:cNvPicPr/>
          <p:nvPr/>
        </p:nvPicPr>
        <p:blipFill>
          <a:blip r:embed="rId5"/>
          <a:stretch/>
        </p:blipFill>
        <p:spPr>
          <a:xfrm>
            <a:off x="3492360" y="3976560"/>
            <a:ext cx="1800360" cy="55908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7174" descr=""/>
          <p:cNvPicPr/>
          <p:nvPr/>
        </p:nvPicPr>
        <p:blipFill>
          <a:blip r:embed="rId6"/>
          <a:stretch/>
        </p:blipFill>
        <p:spPr>
          <a:xfrm>
            <a:off x="6012000" y="3962520"/>
            <a:ext cx="21603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0:09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